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F395F-39CF-43D6-B5F0-DCED3B52659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0ED1A-72B5-4E1C-88F3-6F4E474C3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985680" y="741240"/>
            <a:ext cx="4886640" cy="3665520"/>
          </a:xfrm>
          <a:prstGeom prst="rect">
            <a:avLst/>
          </a:prstGeom>
          <a:ln w="0">
            <a:noFill/>
          </a:ln>
        </p:spPr>
      </p:sp>
      <p:sp>
        <p:nvSpPr>
          <p:cNvPr id="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1E5D0-A0EE-4A00-900F-CF9809611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06D9A-B109-4A3C-BDD4-C660A9CA9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F65AF-B19D-4B99-B2B9-DFEDD3073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00F16-048A-4866-9E86-A8DC0EC81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CAEAD-21E4-4388-AF73-125C58BC5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A1869-BE6E-40FE-9C3D-5D9DFC69D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CDA64-6F6E-498D-B6FB-0E8BE44B3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D0DCB-98E9-454C-B4B6-5EC0B9F59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BD65E-37DB-48E4-851F-7F2CADD0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80FD9-504E-4F0A-B67D-209E8FF15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985680" y="741240"/>
            <a:ext cx="4886640" cy="3665520"/>
          </a:xfrm>
          <a:prstGeom prst="rect">
            <a:avLst/>
          </a:prstGeom>
          <a:ln w="0">
            <a:noFill/>
          </a:ln>
        </p:spPr>
      </p:sp>
      <p:sp>
        <p:nvSpPr>
          <p:cNvPr id="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E0921-1AAA-4613-9530-5F712B02C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B75EA-A071-4414-8B9A-B8561373B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A390B-9486-48C6-8724-C42B6282F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72E0B-60BA-483F-A9FB-04D587377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85680" y="741240"/>
            <a:ext cx="4886640" cy="3665520"/>
          </a:xfrm>
          <a:prstGeom prst="rect">
            <a:avLst/>
          </a:prstGeom>
          <a:ln w="0">
            <a:noFill/>
          </a:ln>
        </p:spPr>
      </p:sp>
      <p:sp>
        <p:nvSpPr>
          <p:cNvPr id="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4EC1D-907C-4629-A18C-2EA147074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985680" y="741240"/>
            <a:ext cx="4886640" cy="3665520"/>
          </a:xfrm>
          <a:prstGeom prst="rect">
            <a:avLst/>
          </a:prstGeom>
          <a:ln w="0">
            <a:noFill/>
          </a:ln>
        </p:spPr>
      </p:sp>
      <p:sp>
        <p:nvSpPr>
          <p:cNvPr id="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ED54F-24EC-42B3-AFAB-F373A883B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85680" y="741240"/>
            <a:ext cx="4886640" cy="3665520"/>
          </a:xfrm>
          <a:prstGeom prst="rect">
            <a:avLst/>
          </a:prstGeom>
          <a:ln w="0">
            <a:noFill/>
          </a:ln>
        </p:spPr>
      </p:sp>
      <p:sp>
        <p:nvSpPr>
          <p:cNvPr id="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5074D-068B-4D99-8EEB-4F5CEE509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985680" y="741240"/>
            <a:ext cx="4886640" cy="3665520"/>
          </a:xfrm>
          <a:prstGeom prst="rect">
            <a:avLst/>
          </a:prstGeom>
          <a:ln w="0">
            <a:noFill/>
          </a:ln>
        </p:spPr>
      </p:sp>
      <p:sp>
        <p:nvSpPr>
          <p:cNvPr id="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5E0CDC-294F-4BFD-AFC3-6E27E20EA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85680" y="741240"/>
            <a:ext cx="4886640" cy="3665520"/>
          </a:xfrm>
          <a:prstGeom prst="rect">
            <a:avLst/>
          </a:prstGeom>
          <a:ln w="0">
            <a:noFill/>
          </a:ln>
        </p:spPr>
      </p:sp>
      <p:sp>
        <p:nvSpPr>
          <p:cNvPr id="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D9925-4499-4FDF-BB54-29D46817F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985680" y="741240"/>
            <a:ext cx="4886640" cy="3665520"/>
          </a:xfrm>
          <a:prstGeom prst="rect">
            <a:avLst/>
          </a:prstGeom>
          <a:ln w="0">
            <a:noFill/>
          </a:ln>
        </p:spPr>
      </p:sp>
      <p:sp>
        <p:nvSpPr>
          <p:cNvPr id="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248B1-6133-4444-8589-620A62088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85680" y="741240"/>
            <a:ext cx="4886640" cy="3665520"/>
          </a:xfrm>
          <a:prstGeom prst="rect">
            <a:avLst/>
          </a:prstGeom>
          <a:ln w="0">
            <a:noFill/>
          </a:ln>
        </p:spPr>
      </p:sp>
      <p:sp>
        <p:nvSpPr>
          <p:cNvPr id="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7A509-D496-433F-9AEE-A5289F011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BC7E518-3272-47C0-89B7-AB8E611CD8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28EB1CE-C8C0-4B3C-8FED-50B763DE48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A128014-7F11-427D-9E40-C8350F4A04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351F7D0C-F0CE-4063-AC26-4117E05F42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6FDB1FB-130C-4F40-B1DF-F92420F01C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7702A30-F84C-45A0-8304-CFA093D7532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18A5EEE-90EC-4A95-ACA4-CA69C72E23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22B7B0B-4473-4EAC-BC6E-CC1C1A3BFFC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AFB5639-AE94-4D88-A610-9E3A0EFFC8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1EE04FB-1078-435D-B817-5C62FC4DED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8E340E4-33DE-4FE2-838A-238499F8E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D6E2E85-9885-4894-94EF-A5B2D152AB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FE852BE-00FA-443D-8CB4-352EF42AC1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467DBBB-DC16-4D1C-8B6C-A3D92A20BC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00B1F0D-77B2-40A2-B1E4-AC9857C465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75468B3-D3BB-47F3-8FFE-519329CA4C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37DF066-5302-4FE4-AD0A-BCC8087782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58BCFD0-4612-4454-ABCA-C08D12C61FD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F8E09DB-AF45-4B98-B7A3-212D855712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74FBC33-3E5D-4305-AEAC-F0BD3C46A9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987252C-9A84-409F-9DA1-E1742533858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8FFA564-7185-4D62-AB29-9B68BA49D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232996C-81B6-4817-BBF2-65EAC65B43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2010D5A-29C4-4CC8-9ECE-F6FCC84D3C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5F59A07-D276-4E61-A63E-06AF3A2155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74EB94A-0267-4487-AD32-59749C5A9F1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E3C5101-A226-4182-B13B-4E87B7BA6F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40C5358-67A7-4557-ADFA-3C3207A7A9D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EA55C89-CBAA-459B-A473-79D0121E001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A48955C-AAD1-40DF-8058-5DFF984984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01D8D06-5300-4B92-A5F8-E78650E2E50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6C9D457-E4BA-4DB2-BCDE-E29340178D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718A65E-7AFC-4CD5-A608-1CD0C131F7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CE95FB-1E51-43CB-8AFC-C360663ADAF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F16395A-5720-41C3-8600-D1D810B7C5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E00D46B-8505-4C57-9D5A-AD12909633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499350C-88C4-484A-806E-419446210D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C0E3EF8-358D-44E2-8907-F8D9FA3B64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86CA6A0-0FAB-4466-9180-2F878D25D9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0D21439-1EE1-40D8-8264-29DB102BD2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B044B65-8FC3-4056-809C-FE3B7662C83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4489A63-ABBA-4E7F-8A59-5746B5359A1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E9B3B51-5B6E-49DD-8F2A-26150B9D80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AED1A92-9E53-43CB-AF5C-4E175E3584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B67B4F0-D0E0-47E2-83A9-FE4E587CD8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E2FD5D0-E364-4687-9512-C28AF3E961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6C22134-C2A2-4DE1-B35D-9CE0615019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7A1FF3F-B9B8-4F3A-B6A1-E373B31939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FB88939-7C67-4BEC-9154-AA0C6F0F8A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377E588-2180-45CC-9063-128D5E87A77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DB0F8C9-FE89-4DD9-905B-956AB85905B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65CD48F-5851-4BDE-BCCC-31EB880B2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13540F2-0713-49A1-843B-8B240E80E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C055952-5B3D-4CD1-BEA9-3731C93E9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69B05966-3C52-44BD-8D17-32B831B3FE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C383A16-739C-4122-BEB2-00F616D0C65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DFBF4F5-BE86-4F0A-9A70-77A486DF9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1706085-CE02-4DEB-94B4-AFF4A25A4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1FB52BD-5FF3-47FF-80CB-2A9F2BF83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5754ABE-C70F-4D43-93DD-90B0E30E1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4D70DF7-FF3F-4B78-BEB5-AB0F6B5AF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BB9C492-1CFB-4A02-8CA1-4858A112D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86E624C-3E9D-4695-B88D-4AE87B9E92E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8A27969-1572-4D2C-BEAC-F115B6D0C9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B9610A7-FB1E-41FC-8759-8807460DA5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29B2772-2DF7-48A8-AC16-C62413104C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E956662-8B34-48B6-993A-E8BCABEA0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1F0896D-CEB2-428A-A74D-DC8A7035F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E005C76-A2A6-4DD7-8512-AE0C777146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34917B6-98BA-4A69-A3B4-7CA450D533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3BF1689-5A24-48FC-949E-23ECAA4DD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6F1F624-D607-4845-8626-36B43615BA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4772734-18D7-4923-9C9F-417F58D2C9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D31831-222E-4B8A-A4EB-BA74F9F2A4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639C5-548B-407C-88A8-9E6D1C69E6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494DA7-2CA1-4C00-9DE0-C11E9527B4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20DD61A-2976-4025-86B0-77D2E8E086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53F0B7-CF28-4590-8E17-0ADD74BA4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418CD5B-F9F9-49AF-A2F8-2297AC6D62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45EE0AB-3F65-4882-86EC-262C6F5787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ABAD4A4-8C58-4D5B-8DAD-82F74E61B3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075CF1E-1B77-4408-8218-81C468FAE0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52C89D9-C530-4C7E-83BB-AE1480B995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379BB46-070F-40B5-B877-038B5D3DA1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337B76E-8A04-4ED3-A3B8-32F9643F11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C137C06-C7A5-49BD-B813-62A1E45E54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B5932A-B1D9-4C75-A940-91ECECA542B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414A6B2-4B46-48D5-A084-F78CA16514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8BD1442-3B87-427F-9149-9C7EE94AD8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D53C277-E92A-4469-939E-D6213C8846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61C6E50-BB7A-451E-8BF0-D92586ED46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81261D4-3194-484E-ABB5-82A52796649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316C41C-24BF-4674-BF71-727B1DE5022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8F980B1-EEB3-44A9-8046-6A5684A99B5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44EA409-A27C-4AFC-9589-497EBA8C70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110C924-BCE3-4886-B987-5F560000B4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E134FA6-0753-408C-B231-A3A56A24E10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5B6103F-BE87-4751-A339-9A00A83A0F9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C42374E-76AB-4863-867E-CBDEFBC576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3788100-35AA-4E25-9648-A25FE3164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8800DFE-308E-4D14-8C2D-D37F6A3FDC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0994D4A-64E9-4ED1-947D-667D0FE554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050A841-E29F-461E-90D9-2DC777B0035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DFEF1C2-C59E-46C9-A911-F525EA4E48F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7EDCD47-8DA1-4755-88BB-2959F67915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AB201C2-50F3-4C8C-90AC-E8D498D121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2CEDDBC-C966-444E-A113-4F29C8F63DB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F9A01EF-7E76-4CA1-883E-E25FB46A71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0982F83-36E6-4F5B-8446-40EAB10DD8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BC14471-C3DE-492B-BB12-FF8AAE0D74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A3A2CFC-398B-48BF-8A19-7F850A899F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ED966B0-D044-4672-90E7-EC4CAB1D5B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773B320-0B7F-4BDC-A31F-35F4E271AB6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CB980C-A8F7-4ECC-828F-688D859309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5C473B1-447D-4FDC-B7E5-577DA54216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A9C6AE8-65BF-4801-AB2F-8CF2BA198C4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EA012D8-D704-481C-98ED-D790B7D1B3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418645B-7447-4488-B6DD-772B214C40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7AFA17E-C85B-401F-84A0-4A28C969F3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34EDB3D-8C59-4367-8450-9AC0998F9F1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FEDC73F-6CCD-410E-9EE8-85B8A79B6F8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70D0239-7C87-4454-93BD-5B234EC143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EB2F843-C36C-45F1-95B7-03C043E58E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B456D3D-555D-4E65-B43E-2C2DD1BFD2A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EB2719D-427C-4F00-89EE-AD23D24E14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EC98023-4258-423C-BD08-FCE72C839F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AF4D02A-3C12-4AAF-8D63-BECF8B3BB0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AB498AE-CBAA-4749-8601-9EE38D854E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4A89404-1671-4660-9072-D5A628D0C9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37E54C2-F3AC-4CA2-9255-751EAC5C376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6C36C5B-E1CB-48AE-88E3-AD400FCBD1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EE4CE22-98A4-43A6-AAF7-3327616692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1A84F13-7DE4-44E7-8944-BB67A0AE7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3652B58-493B-4979-92D4-ABFA9E2091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FA5430B-E26C-49BF-9E59-E3B26CFE0C4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31A88B8-26ED-4264-A411-E077FD6726A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620ADAB-FCF9-49BE-A3C3-38849A303F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37D5C33-9E76-4198-A28F-0D608CDDE2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299863F-1A6A-4F5D-AB38-2B7D2E1E7C0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9910733-9E9F-4F43-A151-5D366A60DE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6A7AE8C-078D-4415-820F-44DB6149C7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30F9FF0-DE46-4174-B3C6-13027C5A0E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704A778-EC8C-4B2B-8F95-0481A0D218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A426EE0-D9ED-4CF1-B5E7-BC420C45A5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938BF80-B05F-4560-9865-D448673601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7D55ED4-96F0-4B0B-BE90-3B41269EDF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1CDEB4C-B913-4B26-91EE-C6DA5D8631F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9C906A7-AC1B-42BA-81E0-7DD00173A6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6667E3A-274F-4052-928C-D956BDFB328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63619FF-B368-46C4-A8AA-8349F4FD3B9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9DBCFF0-ED86-4828-9F87-7BFDFA8FBF8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D4A5FCD-A9F5-4356-A647-F259BAD12A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04C88D0-592F-4A72-9FD0-E553F222F1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E101BFF-A7CD-4AA8-A354-348FFCB6B3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E60D799-A65B-4B57-993A-05FB63567F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C78B6-C2AE-4051-A0C7-70B1994CFA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513A7-53BD-4E34-A7EB-809F522899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1304B-1E12-4EDE-9C72-D570B1200D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0BCF3-07D7-467A-A1A8-438AF6294E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F33D3-8C29-4E0A-91A7-3CF31D80873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68C85-86D1-497C-94CE-8939C74E3E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F5598-DFF0-46A2-9E04-23D09B1412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1C56C-7D90-4EC4-9788-7ADDBBE306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38111-CCAB-471C-9873-7D0E23DBC0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4EE0A-E368-4D16-AF10-B0B726044C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0671B-47B0-422E-A628-E54EEFA5B7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3D795-29DA-48FB-BE19-356E16B503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6DF14-3CC7-45D1-96C1-991944FC63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57120" y="1268280"/>
            <a:ext cx="8429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39" name="" descr=""/>
          <p:cNvPicPr/>
          <p:nvPr/>
        </p:nvPicPr>
        <p:blipFill>
          <a:blip r:embed="rId1"/>
          <a:stretch/>
        </p:blipFill>
        <p:spPr>
          <a:xfrm>
            <a:off x="0" y="0"/>
            <a:ext cx="9144000" cy="1368360"/>
          </a:xfrm>
          <a:prstGeom prst="rect">
            <a:avLst/>
          </a:prstGeom>
          <a:ln w="0">
            <a:noFill/>
          </a:ln>
        </p:spPr>
      </p:pic>
      <p:pic>
        <p:nvPicPr>
          <p:cNvPr id="740" name="" descr=""/>
          <p:cNvPicPr/>
          <p:nvPr/>
        </p:nvPicPr>
        <p:blipFill>
          <a:blip r:embed="rId2"/>
          <a:stretch/>
        </p:blipFill>
        <p:spPr>
          <a:xfrm>
            <a:off x="1258920" y="2060640"/>
            <a:ext cx="1297080" cy="1528560"/>
          </a:xfrm>
          <a:prstGeom prst="rect">
            <a:avLst/>
          </a:prstGeom>
          <a:ln w="0">
            <a:noFill/>
          </a:ln>
        </p:spPr>
      </p:pic>
      <p:pic>
        <p:nvPicPr>
          <p:cNvPr id="741" name="" descr=""/>
          <p:cNvPicPr/>
          <p:nvPr/>
        </p:nvPicPr>
        <p:blipFill>
          <a:blip r:embed="rId3"/>
          <a:stretch/>
        </p:blipFill>
        <p:spPr>
          <a:xfrm>
            <a:off x="6948360" y="1989000"/>
            <a:ext cx="1444680" cy="1573200"/>
          </a:xfrm>
          <a:prstGeom prst="rect">
            <a:avLst/>
          </a:prstGeom>
          <a:ln w="0">
            <a:noFill/>
          </a:ln>
        </p:spPr>
      </p:pic>
      <p:sp>
        <p:nvSpPr>
          <p:cNvPr id="7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9" name=""/>
          <p:cNvGrpSpPr/>
          <p:nvPr/>
        </p:nvGrpSpPr>
        <p:grpSpPr>
          <a:xfrm>
            <a:off x="0" y="306360"/>
            <a:ext cx="9140760" cy="6548400"/>
            <a:chOff x="0" y="306360"/>
            <a:chExt cx="9140760" cy="6548400"/>
          </a:xfrm>
        </p:grpSpPr>
        <p:grpSp>
          <p:nvGrpSpPr>
            <p:cNvPr id="560" name=""/>
            <p:cNvGrpSpPr/>
            <p:nvPr/>
          </p:nvGrpSpPr>
          <p:grpSpPr>
            <a:xfrm>
              <a:off x="0" y="306360"/>
              <a:ext cx="9140760" cy="6548400"/>
              <a:chOff x="0" y="306360"/>
              <a:chExt cx="9140760" cy="6548400"/>
            </a:xfrm>
          </p:grpSpPr>
          <p:sp>
            <p:nvSpPr>
              <p:cNvPr id="561"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8" name=""/>
          <p:cNvGrpSpPr/>
          <p:nvPr/>
        </p:nvGrpSpPr>
        <p:grpSpPr>
          <a:xfrm>
            <a:off x="0" y="306360"/>
            <a:ext cx="9140760" cy="6548400"/>
            <a:chOff x="0" y="306360"/>
            <a:chExt cx="9140760" cy="6548400"/>
          </a:xfrm>
        </p:grpSpPr>
        <p:grpSp>
          <p:nvGrpSpPr>
            <p:cNvPr id="569" name=""/>
            <p:cNvGrpSpPr/>
            <p:nvPr/>
          </p:nvGrpSpPr>
          <p:grpSpPr>
            <a:xfrm>
              <a:off x="0" y="306360"/>
              <a:ext cx="9140760" cy="6548400"/>
              <a:chOff x="0" y="306360"/>
              <a:chExt cx="9140760" cy="6548400"/>
            </a:xfrm>
          </p:grpSpPr>
          <p:sp>
            <p:nvSpPr>
              <p:cNvPr id="570"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51Z</dcterms:modified>
  <cp:revision>154</cp:revision>
  <dc:subject/>
  <dc:title>Παρουσίαση του PowerPoint</dc:title>
</cp:coreProperties>
</file>